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7E5-3F00-451E-B6E7-345BBD42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502-D57C-4A65-9B9A-108CA62E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AAE7B-BAE3-4D2B-90B9-F99B6DCE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65D70-7D2E-4A25-AE03-1E62FCEA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2C881-5B73-457A-8208-575B32C8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913EA-9E80-4EA9-B00D-4A157750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E88F4-69CE-418C-AB63-D71E4C46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FE50F-E4F9-4E9D-8960-A8A1F14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BAD63-EB26-4817-9D45-D0C12C5F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71AAE-BE0D-4FDE-B5B8-678A260B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58C66-2444-4E85-9284-55A2D4A4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BAA3C-0E2C-4243-AFEA-2500C381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42C-4814-44B1-BA95-0184C8FE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D7276-95A1-4126-9348-294DE11A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87FA9-1FC4-4A14-ADB7-9FB9604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BC701-6BDA-4F1B-BC6D-9FE295EB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D19EF-8531-4388-BC10-74D98E69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C3ECC-C51C-4093-9DDF-A7018A97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87430-C43B-42E5-A56B-F66B5130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C6BEB-8F22-4E0E-A128-7D5D5FE3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08DC1-461F-4D4D-8A71-C9A48652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0D6CC-71C2-468E-9497-EE4CB09A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64C07-5D63-4230-B575-F936A3C0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C59-D2C6-4395-B80D-DE73DA45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3D9D9-4F9A-4F29-8CFC-F5142245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236829-2609-406A-A556-5A30B137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B40B1D-0973-4F06-ACD7-E0C9509C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28CD1F-10E8-4B26-A490-0BA1C7BF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C47574-ABA5-47A1-A3BB-8B755553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9A4D64-ACFA-4F3F-B58F-5AAA2869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89509E-0E8E-426C-BC48-1AACFA67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25D32F-BCCD-4BC4-8AEB-996D15B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FD1725-E794-4557-8AF0-09BF7C0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3F2CA3-1049-4FA9-A949-BF381B76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3FA9-887B-4774-9A81-6FD8FA90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FF81FB-B7E1-43F9-A2BC-53CC5BAC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270CE7-5645-4FA4-A952-77FC86CA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02C7FF-2FAD-4F3A-83F8-B12E5518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0DA72-E74D-4AD7-89F0-E66F76E6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E39DD-B2A8-4E32-9098-B456F8E0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5BC41-5677-4AB9-B5D1-DFA7F0F3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8922F-98CA-4691-95CD-31E86578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21938-3A2C-4BAB-A7CC-DE9B6B66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DB985-6975-4B81-A71F-D48E8C14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8EEE2-FAD7-4571-859C-B79D0FA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72CC-04EC-46BB-ABC5-3DE49377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B90FB-38C0-4005-AEA5-BA0BEC80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F575A-E37D-499D-BD8F-3106E8F9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03E30-3E19-4D71-9A6E-1D693171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4C228-0C92-4FCB-9415-FD49F00E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9FE89-C1B8-4F70-BE15-852DB749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B450-9067-43B4-8B82-321EFCBC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EA20-C8EE-4FCC-8F51-8BD789DC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2BE0-CE23-4A10-AD51-53C4FFE8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C46F-FBE8-4BF0-82B1-037F1369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205E-1EC1-4E6E-9A4B-0C774C41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F49-93B2-4F75-853C-18BBAE81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8071-0EDD-4E64-A31B-C49F4079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83C3-8FD3-486F-94A1-D687C60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F35D-1F6E-4230-8CF7-D051DC4E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3D2B-FECD-4AD3-869A-6B14B60C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D7E4-4D39-48EB-B50B-6BDE0DE5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D51E-1C14-4635-A812-B7F1040B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C8BA1-B76F-46F9-95B4-99E450F9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2484-144A-4023-A63A-CAF81327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BC159-D61D-4D3D-882E-288217EE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25DD4-0945-4BA0-8744-E8753931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8D5-AF0C-404D-A1D4-5ABCD999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A76C-E2E0-45AD-B725-97023455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33DE-0DA4-4BCC-BF27-27AD4BD5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0B31C-9AD3-4C38-A4AD-292162BC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C054-CB7C-414E-A3F9-F5203B50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CF0D-3FCF-4054-A206-883889D4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4BE5-FD8E-48D3-A93A-0384D8BC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E640-F9C6-4CFB-9114-AFFE7309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CBA71-C005-4D55-B0F0-C597D03F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4173-CFFE-40E0-8AAB-1B565095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3085C-8A83-4A7E-ACDC-05CBB524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DAA-E3CB-444D-8BAE-86D5EAD2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7182C-29F0-4A31-8445-905501A7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07D1-321E-4CFA-8A7A-1671DC30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88FC-AC7A-4F29-B207-213DD4E5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2373-0EAD-4386-B2CA-7B1CB4A4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E46C-307F-4193-B398-40C6EED3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C458-FC19-47BA-AEA0-82132495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9B964-FB04-409E-86A1-F40F5303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90A29-0527-41A2-9031-E560CC1B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08959-5188-4912-A860-3A5653F4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2BF27-45DB-4F8D-91AB-B00C3DBC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E86-5514-4303-8874-FC425D3D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34F51-536A-4DF5-8B90-3A4392DE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9026-7A1A-43D9-ACB9-DC18C5F4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F5660-F78B-412A-B330-38F0CF98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EC890-A999-407B-A288-38888BBA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B232D-7309-4C2B-ADB2-D74555BE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CF9F3-877D-46B4-A443-D79CE14B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00179-AC7D-4526-BF1D-98082B6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11A4A-D868-4E2D-8C83-37711107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FFD2B-7620-46CB-9966-3C59291C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E9DA6-0FE4-40FB-9F9C-36C13106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F21-A296-413A-AEE3-652266B8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5D289-7F71-4599-BAE9-33388382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D4A55-67E3-4D1C-9958-A0B3077B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43F94-DEF1-40D2-9EB8-C2D05E87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797C3-12A6-4399-B693-2335BB12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88A5C-2B19-4A7F-AB70-FAE07A7F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21BC2-FC2E-4E12-A201-A42199D0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53035-C25E-4292-8723-C5F97072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3D886-7CF1-41E1-9078-C52C7505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50651-0120-4CCF-8B36-C91CBA97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D715-842D-4A62-9A55-4BF4A68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467-2367-41A3-88FA-E9F8CFC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7736A-4A82-4F84-8D50-C10835BE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95F6E-7944-4683-A0CE-5BD16631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5BDDB-7155-483B-B716-C7C00209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7DAF-86AF-49FD-84A7-06795864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1081F-2D72-4B1D-AD31-4621D005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21AF8-3A6A-4570-93B6-57179FB7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3CE82-FFA9-4B8E-97B6-02608C76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2939F-3B09-488C-9F31-0EDF7D95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CF66A-3D43-466C-A067-5C4EE633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F7BAE-527A-46A8-916B-12D07092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438-AE8C-4CD6-B91C-1CE86FE8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E680F-055A-45EC-B051-592A52A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5CDD0-6DF0-422B-BB8F-8B88E81C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1AC1E-1CDD-4CC2-BA9F-CB9AFA75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EA3E9-A1ED-48A9-8A05-B513DD94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3D4F7-8D07-438E-B87C-00C249F9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55ACF8-AB0A-4255-B49F-E141446B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D67999-A174-4480-9ACB-1AA7C029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D0F686-31A5-41E1-AD42-A1B7A21C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2C692F-739F-47F2-B0F3-96F38D5E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3264E3-DBB1-43A1-AB8B-4445E6E9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8A8-0A80-4A19-AA0E-8EC45BC7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D17848-5466-4D75-810E-5159F481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C0B8F2-EEB4-41F1-B5C4-CED945E6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E516C8-7F70-400F-8E5D-3E2C98A6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5D1B10-D9BF-4B47-A377-8815F0EE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AA737-B453-45DC-BD65-8E6498EA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80D360-D781-46EF-B95F-61DCDAA2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B126BD-7C64-4FDA-9C9D-F1A2ABFC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F0E61-6FAC-4614-A1E0-E8391C8F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FA098-99C7-45B6-AFC9-8D73D206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905BE-BF7D-4481-9AFA-1FE9647D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AA16-6F82-489A-833B-7D06AE4B297C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5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5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5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5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5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5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6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A578-46DE-4E61-9A96-93383F786F43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3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4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5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6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8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9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10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F934-9AA7-4F18-BEF0-DC6FBC31795D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5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5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5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</p:grpSp>
        <p:grpSp>
          <p:nvGrpSpPr>
            <p:cNvPr id="5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5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</p:grp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49B9-309E-4344-B062-C4A7C1EB3B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BB62-0C17-4B4A-A6A9-0BC0E223B6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8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1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2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3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4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5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D38B-1B08-4DAC-AB5A-3CB4C5FEF21B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49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50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51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52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53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54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55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56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57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16BF-B7E4-4278-ADFA-2B991C2F6973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00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01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0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03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04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05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06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07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08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09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7774-7C16-4CDE-9D52-CEC177300A6F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1A3F-F3A2-4ACD-948A-1DE368E9E828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0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03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0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05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06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CA9C-159D-4DDB-9655-CEB84B5DC7BF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4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50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51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52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53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54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55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56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57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58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22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EB1A-0E96-4BDD-BFA4-ECC0B3293153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4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0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04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05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06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07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08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09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10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4F2F-9C84-4913-BB5D-29E34E64344C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dt" idx="26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«Приобщение дошкольников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к русским народным традициям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через ознакомлением с народным искусство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440" y="3805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развития ребенка – детский сад №2 «Ромашка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ковского муниципального района Липец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663300"/>
                </a:solidFill>
                <a:latin typeface="Arial"/>
              </a:rPr>
              <a:t>Сообщение из опыта работы воспитател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спитатель высшей квалификационной категор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ображенская Елена Леонидов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685440" y="380520"/>
            <a:ext cx="8001000" cy="9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эта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осно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линных предметов народного искус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86200" y="1676160"/>
            <a:ext cx="502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воение некоторых приёмов леп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делий народных промыслов: вытягивание, лепка из отдельных частей, налепы, насечки, лепка геометрических и растительных элементов узо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Arial"/>
              </a:rPr>
              <a:t>При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т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ешек, стихов, загадывание загад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ставление коротких рассказ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 вылепленных издел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просы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буждающие детей фантазировать, например, представить каким характером обладает барышня-водоноска, горделивый индюк, филимоновский конь или романовский козе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равнение игруше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осуды по элементам и цветам росписи, способам леп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едение в активную реч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элемент», «силуэт», «узор», «роспис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думывание сказ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с использованием вылепленных детьми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Рисунок 5" descr="C:\Users\Елена\AppData\Local\Microsoft\Windows\Temporary Internet Files\Content.Word\100_2600.jpg"/>
          <p:cNvPicPr/>
          <p:nvPr/>
        </p:nvPicPr>
        <p:blipFill>
          <a:blip r:embed="rId1"/>
          <a:stretch/>
        </p:blipFill>
        <p:spPr>
          <a:xfrm>
            <a:off x="609480" y="4495680"/>
            <a:ext cx="2895840" cy="21481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4" descr="100_2626"/>
          <p:cNvPicPr/>
          <p:nvPr/>
        </p:nvPicPr>
        <p:blipFill>
          <a:blip r:embed="rId2"/>
          <a:stretch/>
        </p:blipFill>
        <p:spPr>
          <a:xfrm>
            <a:off x="609480" y="1371600"/>
            <a:ext cx="22240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0880" y="3808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эта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детского декоративного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038480" y="160020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енные на занятия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нани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 творчески используют в свободной деятель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астерской  они не только осваивают способы и приемы лепки, рисования, аппликации, но 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спериментирую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бо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териалов, образов, инстру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рытиями и умозаключениям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елят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товарищами и педаго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боты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ются для создания интерьера в группе (картины, украшения, игрушки, декоративные пластины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норам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ымковские вечера»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кет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«Озеро с утками»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кульптурные композици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«Разгулялся наш филимоновский конек», «Ярмарка в селе Романов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уются детски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сональные выставки с презентацией авто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ярмарки творческих рабо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деороли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ля демонстрации достижений детей их род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Рисунок 8" descr="C:\Users\Елена\AppData\Local\Microsoft\Windows\Temporary Internet Files\Content.Word\100_2594.jpg"/>
          <p:cNvPicPr/>
          <p:nvPr/>
        </p:nvPicPr>
        <p:blipFill>
          <a:blip r:embed="rId1"/>
          <a:stretch/>
        </p:blipFill>
        <p:spPr>
          <a:xfrm>
            <a:off x="304920" y="3962520"/>
            <a:ext cx="3581280" cy="27097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1" descr="100_2654"/>
          <p:cNvPicPr/>
          <p:nvPr/>
        </p:nvPicPr>
        <p:blipFill>
          <a:blip r:embed="rId2"/>
          <a:stretch/>
        </p:blipFill>
        <p:spPr>
          <a:xfrm>
            <a:off x="304920" y="1219320"/>
            <a:ext cx="3504960" cy="263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1408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зультаты работы по приобщению детей к ценностям народного искус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648320" y="1653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стойкий интерес к народному искусству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умение работать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дивидуально и создавать коллективные композиции, соотносить свои желания и интересы с желаниями и интересами других детей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стремление договариватьс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руг с другом, уступать товарищам, аргументировано и спокойно отстаивать свое мнение, радоваться общему результату деятельности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расширился словарный запас,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ни активно овладевают навыками                     словообразования,                       успешно  развивается                    связная фразовая реч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100_2621"/>
          <p:cNvPicPr/>
          <p:nvPr/>
        </p:nvPicPr>
        <p:blipFill>
          <a:blip r:embed="rId1"/>
          <a:stretch/>
        </p:blipFill>
        <p:spPr>
          <a:xfrm>
            <a:off x="7543800" y="48006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8" descr="100_2642"/>
          <p:cNvPicPr/>
          <p:nvPr/>
        </p:nvPicPr>
        <p:blipFill>
          <a:blip r:embed="rId2"/>
          <a:stretch/>
        </p:blipFill>
        <p:spPr>
          <a:xfrm>
            <a:off x="838080" y="4038480"/>
            <a:ext cx="3353040" cy="25164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100_2649"/>
          <p:cNvPicPr/>
          <p:nvPr/>
        </p:nvPicPr>
        <p:blipFill>
          <a:blip r:embed="rId3"/>
          <a:stretch/>
        </p:blipFill>
        <p:spPr>
          <a:xfrm>
            <a:off x="838080" y="14479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6668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9432b"/>
                </a:solidFill>
                <a:latin typeface="Book Antiqua"/>
              </a:rPr>
              <a:t>Спасибо за внимание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дним из наиболее доступных для освоения дошкольниками видов народной культуры является декоративно-прикладное искус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оизведения народного искусства вносят в жизнь гармоничные формы, яркие краски, бодрые ритмы, мажорные чувства, позитивные ид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правления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знакомление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детей с определенным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идом народного декоративно-прикладного искусства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Эмоциональное воспитание детей: умение видеть, любоваться и восхищаться красотой предметов народного твор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учение декоративному рисованию и лепке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 основе подлинных предметов народного искусства. </a:t>
            </a:r>
            <a:r>
              <a:rPr b="0" i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учение некоторым приемам росписи и лепке по мотивам народных промы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учение умению выделять особенности каждого вида декоративно-прикладного искусства, находить сходства и различия в изделиях народных мастеров,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ировать декоративное творчество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умение создавать узоры на любой форме, развитие творческих способностей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Изделия декоративно-прикладного искус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вают перед детьм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культуры нар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ые идеал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омогают им усвои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аи, традиции, особенности жизни, бы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передают от поколения к поко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C:\Users\Pc\Desktop\фото нар.пр\100_3844.JPG"/>
          <p:cNvPicPr/>
          <p:nvPr/>
        </p:nvPicPr>
        <p:blipFill>
          <a:blip r:embed="rId1"/>
          <a:stretch/>
        </p:blipFill>
        <p:spPr>
          <a:xfrm>
            <a:off x="5029200" y="324000"/>
            <a:ext cx="3773520" cy="2828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" descr="C:\Users\Pc\Desktop\фото нар.пр\100_3828.JPG"/>
          <p:cNvPicPr/>
          <p:nvPr/>
        </p:nvPicPr>
        <p:blipFill>
          <a:blip r:embed="rId2"/>
          <a:stretch/>
        </p:blipFill>
        <p:spPr>
          <a:xfrm>
            <a:off x="5029200" y="3429000"/>
            <a:ext cx="38862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одное искус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но, красочно, оригинально по своему замысл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 детскому восприятию, так как несёт в себе понятное детям содержание, которое конкретно, в простых, лаконичных формах раскрывает ребёнку красоту и прелесть окружающ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" descr="C:\Users\Pc\Desktop\фото нар.пр\100_3824.JPG"/>
          <p:cNvPicPr/>
          <p:nvPr/>
        </p:nvPicPr>
        <p:blipFill>
          <a:blip r:embed="rId1"/>
          <a:stretch/>
        </p:blipFill>
        <p:spPr>
          <a:xfrm>
            <a:off x="5029200" y="380880"/>
            <a:ext cx="3868560" cy="28987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C:\Users\Pc\Desktop\фото нар.пр\100_3834.JPG"/>
          <p:cNvPicPr/>
          <p:nvPr/>
        </p:nvPicPr>
        <p:blipFill>
          <a:blip r:embed="rId2"/>
          <a:stretch/>
        </p:blipFill>
        <p:spPr>
          <a:xfrm>
            <a:off x="5029200" y="3505320"/>
            <a:ext cx="38797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кус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жда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яркие, образные предст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Родине, ее культу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воспитанию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а прекрасного, развивает творческие способ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C:\Users\Pc\Desktop\фото нар.пр\100_3864.JPG"/>
          <p:cNvPicPr/>
          <p:nvPr/>
        </p:nvPicPr>
        <p:blipFill>
          <a:blip r:embed="rId1"/>
          <a:stretch/>
        </p:blipFill>
        <p:spPr>
          <a:xfrm>
            <a:off x="4876920" y="228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Users\Pc\Desktop\фото нар.пр\100_3869.JPG"/>
          <p:cNvPicPr/>
          <p:nvPr/>
        </p:nvPicPr>
        <p:blipFill>
          <a:blip r:embed="rId2"/>
          <a:stretch/>
        </p:blipFill>
        <p:spPr>
          <a:xfrm>
            <a:off x="4876920" y="3429000"/>
            <a:ext cx="3876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бери картинку из частей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веди порядок у игрушек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знай элемент узор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детя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, закреплять полученные знани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C:\Users\Pc\Desktop\фото нар.пр\100_3846.JPG"/>
          <p:cNvPicPr/>
          <p:nvPr/>
        </p:nvPicPr>
        <p:blipFill>
          <a:blip r:embed="rId1"/>
          <a:stretch/>
        </p:blipFill>
        <p:spPr>
          <a:xfrm>
            <a:off x="4952880" y="304920"/>
            <a:ext cx="3783240" cy="28382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" descr="C:\Users\Pc\Desktop\фото нар.пр\100_3853.JPG"/>
          <p:cNvPicPr/>
          <p:nvPr/>
        </p:nvPicPr>
        <p:blipFill>
          <a:blip r:embed="rId2"/>
          <a:stretch/>
        </p:blipFill>
        <p:spPr>
          <a:xfrm>
            <a:off x="4952880" y="3352680"/>
            <a:ext cx="38102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Творческая мастерская «Лебедушка»</a:t>
            </a:r>
            <a:r>
              <a:rPr b="0" lang="ru-RU" sz="4700" spc="-1" strike="noStrike">
                <a:solidFill>
                  <a:srgbClr val="a9432b"/>
                </a:solidFill>
                <a:latin typeface="Book Antiqua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Picture 8" descr="100_2636"/>
          <p:cNvPicPr/>
          <p:nvPr/>
        </p:nvPicPr>
        <p:blipFill>
          <a:blip r:embed="rId1"/>
          <a:stretch/>
        </p:blipFill>
        <p:spPr>
          <a:xfrm>
            <a:off x="609480" y="114300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 txBox="1"/>
          <p:nvPr/>
        </p:nvSpPr>
        <p:spPr>
          <a:xfrm>
            <a:off x="4191120" y="1523520"/>
            <a:ext cx="495288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родные игруш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линяные игрушки Дымковская, Романовская, Филимоновская, деревянные игрушки народных мастеров Полхов-майдан и Городец, матрешка, народная тряпичные и соломенные игруш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у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жель, Хохлома, Жостов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екоративные пласти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различными видами рос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Собери картинку из частей», «Четвертый лишний», «Наведи порядок у игрушек», «Узнай элемент узора», «Цветные капельки»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зволяют детям  расширять, закреплять и применять полученные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операционные кар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указан порядок лепки изделий народного промысл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ребенок может самостоятельно поэтапно выполнить даже сложную работ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ы в мастерской размещены в открытых коробках, и полимерных контейнерах (с разными крышками – вращающимися, захлопывающимися, с липучками и т.д.)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о дает возможность решать много сопутствующих задач, в том числе и развитие мелкой моторики рук, ориентировки в простран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0" descr="100_2651"/>
          <p:cNvPicPr/>
          <p:nvPr/>
        </p:nvPicPr>
        <p:blipFill>
          <a:blip r:embed="rId2"/>
          <a:stretch/>
        </p:blipFill>
        <p:spPr>
          <a:xfrm>
            <a:off x="609480" y="3809880"/>
            <a:ext cx="335304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этап 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знакомление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733920" y="1523520"/>
            <a:ext cx="5333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моциональное воспитание де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умение видеть, любоваться и восхищаться красотой предметов народного творчества, формирование потребности в прекрас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ы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ние художественных альбомов с образцами народного искус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 с использованием мультимедийных средст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 видеофильмов,мульфильм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и в краеведческий музей города Данкова и мини-музей ДОУ «Родник истории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5" descr="100_2643"/>
          <p:cNvPicPr/>
          <p:nvPr/>
        </p:nvPicPr>
        <p:blipFill>
          <a:blip r:embed="rId1"/>
          <a:stretch/>
        </p:blipFill>
        <p:spPr>
          <a:xfrm>
            <a:off x="228600" y="198108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7"/>
          <p:cNvSpPr/>
          <p:nvPr/>
        </p:nvSpPr>
        <p:spPr>
          <a:xfrm>
            <a:off x="838080" y="5638680"/>
            <a:ext cx="76964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увиденного, ситуации активизирующего общения, созда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лагоприятные условия для общения детей друг с другом, помогают формированию грамотной устной речи, её развитию и обогащ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transition spd="slow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7T05:17:22Z</dcterms:created>
  <dc:creator>user</dc:creator>
  <dc:description/>
  <dc:language>en-US</dc:language>
  <cp:lastModifiedBy>ПК</cp:lastModifiedBy>
  <dcterms:modified xsi:type="dcterms:W3CDTF">2021-02-18T05:54:2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