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78F-4E8E-4C36-9C6A-F039076D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94F-1C07-4E4E-8B0D-EE17589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C7A-5111-44AA-BD30-E4A58CC1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950-45AE-4D7E-B215-8651D43C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E071-9B8A-4BEF-8EE0-D5F5C6D4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4F0-71CB-478A-AF10-3F29ED85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B19-0600-409D-BD4E-9EA766AE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4D4F-AF75-43B9-8F38-6997F930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9B8-64AB-4E75-814B-7CBD3943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DA93-7ABD-46A3-879E-7AA33423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2B77-790A-4636-8DC0-BE78CB2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262-F961-4C0C-8872-70BB6F99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2B3B-39E4-4999-9470-4F1E761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81CE-B8D3-4F2D-960A-A4C3528C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80B-0C3A-4874-AA84-5519B7E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026A-9AA7-4A7E-859A-BB16EAF0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A19-40C7-4108-9A60-6FB7B0C5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E09-D22F-46E5-B9EE-A5A430B4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E1A-055F-44AC-BB53-CB97B25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33F-0571-4C39-8939-545F228D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C05-714A-4B81-B89B-155DD7B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0F3-74B0-4752-B1FD-F0AB110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98C-2D98-4631-BD00-12EB49B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1E4-213D-4106-9CBE-0870649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DFA0-8B51-4A38-AB24-F3D61DA8EA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9AF-4B4A-42A9-832E-0CB769F7F6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581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Семинар</a:t>
            </a:r>
            <a:br>
              <a:rPr sz="4400"/>
            </a:b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«Познавательные маршруты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родного края в воспитании </a:t>
            </a: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личности дошкольника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10666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развития ребенка – детский сад №2 «Ромаш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ковского муниципального района Липец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УДОЖЕСТВЕННОЕ 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РАЕВЕДЕ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ковского кра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одной край на картинах художников, народная живопись, роспись по дереву, памятники знаменитым люд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ковского кра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рхит. памятники, каменное и деревянное зодчество, знаменитые архитекторы, монастыри и храмы – как памят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одные промыс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зыкальная культ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фольклор муз., муз. - нар. инструменты, знамениты муз.,                                        современное песенное                                                          творчества, фестивали, конкурс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9364040"/>
          <p:cNvPicPr/>
          <p:nvPr/>
        </p:nvPicPr>
        <p:blipFill>
          <a:blip r:embed="rId1"/>
          <a:stretch/>
        </p:blipFill>
        <p:spPr>
          <a:xfrm>
            <a:off x="6629400" y="4800600"/>
            <a:ext cx="2209680" cy="164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b9d05778499d"/>
          <p:cNvPicPr/>
          <p:nvPr/>
        </p:nvPicPr>
        <p:blipFill>
          <a:blip r:embed="rId2"/>
          <a:stretch/>
        </p:blipFill>
        <p:spPr>
          <a:xfrm>
            <a:off x="7696080" y="3352680"/>
            <a:ext cx="1065240" cy="129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pic156"/>
          <p:cNvPicPr/>
          <p:nvPr/>
        </p:nvPicPr>
        <p:blipFill>
          <a:blip r:embed="rId3"/>
          <a:stretch/>
        </p:blipFill>
        <p:spPr>
          <a:xfrm>
            <a:off x="5257800" y="4648320"/>
            <a:ext cx="1222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ИТЕРАТУРНОЕ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РАЕВЕДЕНИ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т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ы Данковско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99_big"/>
          <p:cNvPicPr/>
          <p:nvPr/>
        </p:nvPicPr>
        <p:blipFill>
          <a:blip r:embed="rId1"/>
          <a:stretch/>
        </p:blipFill>
        <p:spPr>
          <a:xfrm>
            <a:off x="4876920" y="3581280"/>
            <a:ext cx="3619440" cy="221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ain"/>
          <p:cNvPicPr/>
          <p:nvPr/>
        </p:nvPicPr>
        <p:blipFill>
          <a:blip r:embed="rId2"/>
          <a:stretch/>
        </p:blipFill>
        <p:spPr>
          <a:xfrm>
            <a:off x="1143000" y="3657600"/>
            <a:ext cx="34290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ы работы с детьм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577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й, включающие разные виды деятельности на основе единого содерж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азные темы: "Почему в городе болеют растения?", "Как узнать, что человек любит свой город?", "Что бы ты сделал, если был бы Главой города?"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знакомство детей с социальным и культурным разнообразием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и, развл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родные, обрядовые, посиделки, день рождения города. Дети знакомятся с культурой и традициями нашего народа,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улки, путешествия, походы, экологическая тропи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Демонстрация предметов, показ репродукций, прослушивание музыкальных фольклорных произведений позволяют детям ощутить </a:t>
            </a:r>
            <a:r>
              <a:rPr b="1" lang="ru-RU" sz="1900" spc="-1" strike="noStrike">
                <a:solidFill>
                  <a:srgbClr val="ea0000"/>
                </a:solidFill>
                <a:latin typeface="Times New Roman"/>
              </a:rPr>
              <a:t>причастность к истории народа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 постигать </a:t>
            </a:r>
            <a:r>
              <a:rPr b="1" lang="ru-RU" sz="1900" spc="-1" strike="noStrike">
                <a:solidFill>
                  <a:srgbClr val="ea0000"/>
                </a:solidFill>
                <a:latin typeface="Times New Roman"/>
              </a:rPr>
              <a:t>национальные, нравственные и моральные ценности.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3" descr="SDC15649"/>
          <p:cNvPicPr/>
          <p:nvPr/>
        </p:nvPicPr>
        <p:blipFill>
          <a:blip r:embed="rId1"/>
          <a:stretch/>
        </p:blipFill>
        <p:spPr>
          <a:xfrm>
            <a:off x="228600" y="2438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DSCN1345"/>
          <p:cNvPicPr/>
          <p:nvPr/>
        </p:nvPicPr>
        <p:blipFill>
          <a:blip r:embed="rId2"/>
          <a:stretch/>
        </p:blipFill>
        <p:spPr>
          <a:xfrm>
            <a:off x="4952880" y="182880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SCN1386"/>
          <p:cNvPicPr/>
          <p:nvPr/>
        </p:nvPicPr>
        <p:blipFill>
          <a:blip r:embed="rId3"/>
          <a:stretch/>
        </p:blipFill>
        <p:spPr>
          <a:xfrm>
            <a:off x="4267080" y="3809880"/>
            <a:ext cx="16765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Мини-музей детского сада </a:t>
            </a:r>
            <a:r>
              <a:rPr b="1" lang="ru-RU" sz="1900" spc="-1" strike="noStrike">
                <a:solidFill>
                  <a:srgbClr val="ea0000"/>
                </a:solidFill>
                <a:latin typeface="Times New Roman"/>
              </a:rPr>
              <a:t>«Родник истории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» - мощное средство приобщения детей к духовным ценностям.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Девиз нашего музея: </a:t>
            </a:r>
            <a:r>
              <a:rPr b="1" i="1" lang="ru-RU" sz="1900" spc="-1" strike="noStrike">
                <a:solidFill>
                  <a:srgbClr val="ea0000"/>
                </a:solidFill>
                <a:latin typeface="Times New Roman"/>
              </a:rPr>
              <a:t>«Пожалуйста, трогайте, играйте, изучайте!»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3" descr="1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216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1"/>
          <p:cNvPicPr/>
          <p:nvPr/>
        </p:nvPicPr>
        <p:blipFill>
          <a:blip r:embed="rId2"/>
          <a:stretch/>
        </p:blipFill>
        <p:spPr>
          <a:xfrm>
            <a:off x="5562720" y="1676520"/>
            <a:ext cx="3314520" cy="214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DC14894"/>
          <p:cNvPicPr/>
          <p:nvPr/>
        </p:nvPicPr>
        <p:blipFill>
          <a:blip r:embed="rId3"/>
          <a:stretch/>
        </p:blipFill>
        <p:spPr>
          <a:xfrm>
            <a:off x="11430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DC14920"/>
          <p:cNvPicPr/>
          <p:nvPr/>
        </p:nvPicPr>
        <p:blipFill>
          <a:blip r:embed="rId4"/>
          <a:stretch/>
        </p:blipFill>
        <p:spPr>
          <a:xfrm>
            <a:off x="48006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a0000"/>
                </a:solidFill>
                <a:latin typeface="Times New Roman"/>
              </a:rPr>
              <a:t>Праздник 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- один из существенных элементов </a:t>
            </a:r>
            <a:r>
              <a:rPr b="1" lang="ru-RU" sz="1900" spc="-1" strike="noStrike">
                <a:solidFill>
                  <a:srgbClr val="ea0000"/>
                </a:solidFill>
                <a:latin typeface="Times New Roman"/>
              </a:rPr>
              <a:t>народной культуры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. 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В детском саду стало доброй традицией отмечать православные народные праздники: Рождество, Пасха, Сороки, Масленица, Троица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3" descr="SDC15515"/>
          <p:cNvPicPr/>
          <p:nvPr/>
        </p:nvPicPr>
        <p:blipFill>
          <a:blip r:embed="rId1"/>
          <a:stretch/>
        </p:blipFill>
        <p:spPr>
          <a:xfrm>
            <a:off x="609480" y="1752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SDC15528"/>
          <p:cNvPicPr/>
          <p:nvPr/>
        </p:nvPicPr>
        <p:blipFill>
          <a:blip r:embed="rId2"/>
          <a:stretch/>
        </p:blipFill>
        <p:spPr>
          <a:xfrm>
            <a:off x="5638680" y="23623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5005688"/>
          <p:cNvPicPr/>
          <p:nvPr/>
        </p:nvPicPr>
        <p:blipFill>
          <a:blip r:embed="rId3"/>
          <a:stretch/>
        </p:blipFill>
        <p:spPr>
          <a:xfrm>
            <a:off x="3048120" y="3352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бота с родителям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местны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чера-досуг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"Гостиная для родителей"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адиционные праздн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лечения-виктори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"Что? Где? Когда?"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Счастливый случай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портивные мероприят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"Папа, мама, я - спортивная семья"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вместные походы на природу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SDC16183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1010230"/>
          <p:cNvPicPr/>
          <p:nvPr/>
        </p:nvPicPr>
        <p:blipFill>
          <a:blip r:embed="rId2"/>
          <a:stretch/>
        </p:blipFill>
        <p:spPr>
          <a:xfrm>
            <a:off x="3886200" y="4952880"/>
            <a:ext cx="2057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85840" y="1752480"/>
            <a:ext cx="4529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турологической и педагогической компетент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дагогов в умен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ектировать и осуществлять эффективное взаимодействие с ребёнк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процессе ознакомления с родным крае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attachment"/>
          <p:cNvPicPr/>
          <p:nvPr/>
        </p:nvPicPr>
        <p:blipFill>
          <a:blip r:embed="rId1"/>
          <a:stretch/>
        </p:blipFill>
        <p:spPr>
          <a:xfrm>
            <a:off x="380880" y="685800"/>
            <a:ext cx="2876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ект Национальной доктрины образования в Российской Федераци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Система образования призвана обеспечить воспитан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атриотов России, граждан правового демократического, социального государства, уважающих права и свободы личности, обладающих высокой нравственностью и проявляющих национальную и религиозную терпим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ственно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начинается в детском садике. Это ряд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атических бесе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аблюдений, прогулок, предварительно хорошо обдуманных воспитателем, которые приводят к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нательному ознакомлени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с родиной и готовят ребенка к дальнейшему пониманию живой и неживой природы, а также географии, экологии и т. д.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. Симонович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рганизатор первого детского сад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?id=21080dda3ddfb83b107f0d6ca4e7449a-l&amp;n=13"/>
          <p:cNvPicPr/>
          <p:nvPr/>
        </p:nvPicPr>
        <p:blipFill>
          <a:blip r:embed="rId1"/>
          <a:stretch/>
        </p:blipFill>
        <p:spPr>
          <a:xfrm>
            <a:off x="762120" y="152280"/>
            <a:ext cx="182880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8400" y="404640"/>
            <a:ext cx="75567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одические условия реализации краеведческой работы в ДОУ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троена комплексна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 краеведческой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етьми дошкольного возра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работано содержание образователь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ознакомлению детей дошкольного возраста с родным городом, кра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полн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анк методической литературы, создана картотека презентаций о народных промыслах, предприятиях родного города, работае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-музей «Родник истор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грамма  ДОУ по краеведению                   «Мой край, задумчивый и нежный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целостное представление о родном крае; воспитывать любовь к малой Ро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вивать интерес к народному творчеству и традициям свое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ывать любовь к родному краю, дому, семье, уважения к родителям и их труду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505320" y="1752480"/>
            <a:ext cx="5638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ируемые  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ебенка преобладает эмоционально положительное отношение к малой Родине, он хорошо ориентируется в ближайшем к детскому саду и дому окружению,, знает и стремится выполнять правила поведения в 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являет интерес, любознательность по отношению к родному краю, его истории, необычным памя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удовольствием включается в проектную деятельность, связанную с познанием малой Родины, в детское коллекционирование, создание мини-музеев, макетов, рукописных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являет начала социальной активности: участвует в социально-значимых событиях, переживает эмоции, связанные с событиями военных лет, стремится выразить позитивные отношения к его жи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правления рабо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33720" y="15998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ческое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родо-географическое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жественное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ное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dankov-604011"/>
          <p:cNvPicPr/>
          <p:nvPr/>
        </p:nvPicPr>
        <p:blipFill>
          <a:blip r:embed="rId1"/>
          <a:stretch/>
        </p:blipFill>
        <p:spPr>
          <a:xfrm>
            <a:off x="5181480" y="4419720"/>
            <a:ext cx="2667240" cy="204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i?id=21080dda3ddfb83b107f0d6ca4e7449a-l&amp;n=13"/>
          <p:cNvPicPr/>
          <p:nvPr/>
        </p:nvPicPr>
        <p:blipFill>
          <a:blip r:embed="rId2"/>
          <a:stretch/>
        </p:blipFill>
        <p:spPr>
          <a:xfrm>
            <a:off x="1600200" y="4419720"/>
            <a:ext cx="3124080" cy="2081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dankov"/>
          <p:cNvPicPr/>
          <p:nvPr/>
        </p:nvPicPr>
        <p:blipFill>
          <a:blip r:embed="rId3"/>
          <a:stretch/>
        </p:blipFill>
        <p:spPr>
          <a:xfrm>
            <a:off x="914400" y="1600200"/>
            <a:ext cx="923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РИЧЕСКОЕ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РАЕВЕДЕНИЕ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ковского кр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ервые люди, их быт, занятия жилищ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йны средневековых городов, гер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одный крестьянский бы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ом, изба, ее строение, дом, утварь, оберег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диции, орудия труда, национальный костюм, занятия, обыча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итые лю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ейш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ческие                                             собы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осл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dankov_vid"/>
          <p:cNvPicPr/>
          <p:nvPr/>
        </p:nvPicPr>
        <p:blipFill>
          <a:blip r:embed="rId1"/>
          <a:stretch/>
        </p:blipFill>
        <p:spPr>
          <a:xfrm>
            <a:off x="5943600" y="3581280"/>
            <a:ext cx="2895480" cy="180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mage010_16"/>
          <p:cNvPicPr/>
          <p:nvPr/>
        </p:nvPicPr>
        <p:blipFill>
          <a:blip r:embed="rId2"/>
          <a:stretch/>
        </p:blipFill>
        <p:spPr>
          <a:xfrm>
            <a:off x="4419720" y="4876920"/>
            <a:ext cx="28954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РОДНО – ГЕОГРАФИЧЕСКОЕ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РАЕВЕДЕНИ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омство 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природ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анковского края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животный и растительный мир, инфраструктура – транспорт и т. 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,  се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родный календар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i?id=9b381d3157f1b7cbfeb9eb0319cb1271&amp;n=33&amp;h=215&amp;w=323"/>
          <p:cNvPicPr/>
          <p:nvPr/>
        </p:nvPicPr>
        <p:blipFill>
          <a:blip r:embed="rId1"/>
          <a:stretch/>
        </p:blipFill>
        <p:spPr>
          <a:xfrm>
            <a:off x="609480" y="4114800"/>
            <a:ext cx="335304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?id=a487041a3d30d0203b8f33c75e271c15-l&amp;n=13"/>
          <p:cNvPicPr/>
          <p:nvPr/>
        </p:nvPicPr>
        <p:blipFill>
          <a:blip r:embed="rId2"/>
          <a:stretch/>
        </p:blipFill>
        <p:spPr>
          <a:xfrm>
            <a:off x="6553080" y="3048120"/>
            <a:ext cx="1981440" cy="148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08535c981628b609fb719f598ba3a542"/>
          <p:cNvPicPr/>
          <p:nvPr/>
        </p:nvPicPr>
        <p:blipFill>
          <a:blip r:embed="rId3"/>
          <a:stretch/>
        </p:blipFill>
        <p:spPr>
          <a:xfrm>
            <a:off x="4114800" y="4648320"/>
            <a:ext cx="34290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7T08:05:52Z</dcterms:created>
  <dc:creator>user</dc:creator>
  <dc:description/>
  <dc:language>en-US</dc:language>
  <cp:lastModifiedBy>Ирина Акинина</cp:lastModifiedBy>
  <dcterms:modified xsi:type="dcterms:W3CDTF">2020-04-13T15:47:4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