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28.jpeg" ContentType="image/jpeg"/>
  <Override PartName="/ppt/media/image3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4CA-AA9B-48F9-A48B-A9372358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CCA-971D-44B8-A535-788340C8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7C4-361B-46C9-BE2B-2EA1EC36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039D-D51E-415E-AE0D-3B5E6119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E6F2-55A0-473C-BC41-B961315F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1BB-A589-47E6-AB36-0B8E5D08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D0F-C405-4166-942E-51483F9E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118-17AE-4260-8404-EDDDCAFD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BA9-1854-4C52-8613-C3471D79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995-B8FC-4733-AECF-2ECC9DEE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2FB-641F-4472-8FA8-90629131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45A-9ECA-4D1B-8B1A-816C8504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5DD5-EA5D-4611-BC4B-F5139B8CFA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c0504d"/>
                </a:solidFill>
                <a:latin typeface="Calibri"/>
              </a:rPr>
              <a:t>«Пиктограмма</a:t>
            </a:r>
            <a:br>
              <a:rPr sz="4400"/>
            </a:br>
            <a:r>
              <a:rPr b="1" i="1" lang="ru-RU" sz="4400" spc="-1" strike="noStrike">
                <a:solidFill>
                  <a:srgbClr val="c0504d"/>
                </a:solidFill>
                <a:latin typeface="Calibri"/>
              </a:rPr>
              <a:t> – как приём работы по развитию речи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149360"/>
            <a:ext cx="71308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ыполн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ванова Анастасия Серг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БДОУ д/с №2 «Ромаш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г. Д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202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332000" y="404640"/>
            <a:ext cx="75103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 использования пиктограмм заключается в том, что мышление ребенка развивается через наглядную и доступную фор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3838"/>
                </a:solidFill>
                <a:latin typeface="Arial"/>
                <a:ea typeface="Arial"/>
              </a:rPr>
              <a:t>Следовательно, актуальность использования пиктограмм в работе с дошкольниками состоит в том, что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3838"/>
                </a:solidFill>
                <a:latin typeface="Arial"/>
                <a:ea typeface="Arial"/>
              </a:rPr>
              <a:t>во-первых, ребенок-дошкольник очень пластичен и легко обучаем, но для детей характерна быстрая утомляемость и потеря интереса к деятельности. Использование пиктограмм вызывает интерес и помогает решить эту проблем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3838"/>
                </a:solidFill>
                <a:latin typeface="Arial"/>
                <a:ea typeface="Arial"/>
              </a:rPr>
              <a:t>во-вторых, использование символической аналогии облегчает и ускоряет процесс запоминания и усвоения материала, формирует приемы работы с памятью. Ведь одно из правил укрепления памяти гласит: “Когда учишь – записывай, рисуй схемы, диаграммы, черти графики”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f62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3838"/>
                </a:solidFill>
                <a:latin typeface="Arial"/>
                <a:ea typeface="Arial"/>
              </a:rPr>
              <a:t>в-третьих, применяя пиктограммы, мы учим детей видеть главное, систематизировать полученные зн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692360" y="476280"/>
            <a:ext cx="7005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иктограмма</a:t>
            </a:r>
            <a:r>
              <a:rPr b="0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 создаёт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браз, </a:t>
            </a:r>
            <a:r>
              <a:rPr b="0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что важно д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я механизма зрительной памяти. Поэтому пиктограммы не только ускоряют запись, но и способствуют запоминанию материала, заставляют работать зрительную память и воспринимать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не слова, а обра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и делают вывод о том, что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психическая нагрузка при восприятии пиктограмм намного ниже чем при чтении с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619280" y="476280"/>
            <a:ext cx="706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Пиктограм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помогают детям </a:t>
            </a:r>
            <a:r>
              <a:rPr b="0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овладеть связной речь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т.к. использование символов – заместителей, схем облегчает запоминание и увеличивает объем памяти и в целом развивает речемыслительную деятельнос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использовании различных схем меняется характер деятельности детей: дети не только слышат свою или обращенную к ним речь, но и имеют возможность ее «видеть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составлении рассказов по картинкам и пиктограммам дети легче запоминают новые слова не механически, а в процессе активного использ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1403280" y="47628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спользование пикт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 дошкольной педагог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азывают по-разном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робъёва В.К. – сенсорно графическими схем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ченко Т.А. – предметно схематическими моделя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ва Т.В. – коллаж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фименкова Л.Н. – схемой составления расс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47640" y="260280"/>
            <a:ext cx="722160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Задачи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аемые с помощью использования метода пиктограм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f622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Формирование фонетической стороны ре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f622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Развитие связной р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f622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Развитие ВПФ, а именно коррекция внимания,  памяти, зрительного воспри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f622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Развитие творческих способностей и вообра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f622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Повышение мотивации на логопедических                                     занят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f622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Адаптация в окружающей реа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332000" y="404640"/>
            <a:ext cx="727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ктограммы относятся к невербальным средствам общения и могут использоваться в следующих качеств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средство временного общения, для сохранения у ребёнка мотивации и желания общать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средство постоянного общения для ребёнка, неспособного говорить в будущ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средство, облегчающее развитие общения, речи, когнитивных функций (символизации, формировании элементарных представлений и понятий)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одготовительный этап к освоению письма и чтения у детей с проблемами в развитии (схема слова, схема предлож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403280" y="1166760"/>
            <a:ext cx="734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ИКТОГРАМ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работ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 детьм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школьного возра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476000" y="476280"/>
            <a:ext cx="7210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           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  <a:ea typeface="Arial"/>
              </a:rPr>
              <a:t>Азбука символов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ждый педагог может создать для себя азбуку символов /пиктограмм/, которой он будет пользоваться в рабо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Символы для обозначения предл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1619280" y="3282840"/>
            <a:ext cx="6192720" cy="334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95280" y="0"/>
            <a:ext cx="8569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иктограммы  для обозначения  слов –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2" descr=""/>
          <p:cNvPicPr/>
          <p:nvPr/>
        </p:nvPicPr>
        <p:blipFill>
          <a:blip r:embed="rId1"/>
          <a:srcRect l="0" t="0" r="0" b="23"/>
          <a:stretch/>
        </p:blipFill>
        <p:spPr>
          <a:xfrm>
            <a:off x="1835280" y="1916280"/>
            <a:ext cx="616572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-73440" y="692280"/>
            <a:ext cx="921708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54061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иктограммы для обозначения слов – действ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40908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63640" y="476280"/>
            <a:ext cx="69343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 рождения ребёнок попадает не только в мир реальности, но и в мир условностей. Именно поэтому он должен научиться понимать и оперировать знаками любого ви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е оперировать символами  - это главная особенность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владение новыми средствами символики поднимает ребёнка на высший уровень интеллектуального разви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476000" y="260280"/>
            <a:ext cx="73436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Этапы обучения работе с пиктограм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знакомление ребёнка со знаком – симво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я символа /опознать символ и соотнести с реальным предметом/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rcRect l="0" t="0" r="-7" b="55"/>
          <a:stretch/>
        </p:blipFill>
        <p:spPr>
          <a:xfrm>
            <a:off x="2050920" y="242100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11280" y="476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  <a:ea typeface="Arial"/>
              </a:rPr>
              <a:t>Идентификация символа с реалистическим изображен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1" descr=""/>
          <p:cNvPicPr/>
          <p:nvPr/>
        </p:nvPicPr>
        <p:blipFill>
          <a:blip r:embed="rId1"/>
          <a:srcRect l="0" t="0" r="40" b="0"/>
          <a:stretch/>
        </p:blipFill>
        <p:spPr>
          <a:xfrm>
            <a:off x="2700360" y="1268280"/>
            <a:ext cx="417528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-397080" y="333360"/>
            <a:ext cx="92516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ыбор двух одинаковых пиктограмм из ряда друг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6588000" cy="494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ыбор нужной пиктограммы из ряда други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окаж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оказать  пиктограмму, названную воспитател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1547640" y="2160720"/>
            <a:ext cx="6480360" cy="422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042920" y="-360"/>
            <a:ext cx="7632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ыбор такой же пиктограммы сред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пределённого множества друг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1601640" y="1557360"/>
            <a:ext cx="6515280" cy="4886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41480" y="520560"/>
            <a:ext cx="8136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Конструирование фразы с помощью  пиктогра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/ Девочка пошла в лес за грибами.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5280" y="259920"/>
            <a:ext cx="8424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ыбор из нескольких фраз той, которую   назвал воспит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/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ышка убегает от кошки.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5450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258920" y="476280"/>
            <a:ext cx="74390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лгоритм установления связи между изображением предметов и их функци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  <a:ea typeface="Arial"/>
              </a:rPr>
              <a:t>Составить из пиктограмм пару /предмет-действие/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Изображение 010"/>
          <p:cNvPicPr/>
          <p:nvPr/>
        </p:nvPicPr>
        <p:blipFill>
          <a:blip r:embed="rId1"/>
          <a:stretch/>
        </p:blipFill>
        <p:spPr>
          <a:xfrm>
            <a:off x="539640" y="249228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Изображение 012"/>
          <p:cNvPicPr/>
          <p:nvPr/>
        </p:nvPicPr>
        <p:blipFill>
          <a:blip r:embed="rId2"/>
          <a:stretch/>
        </p:blipFill>
        <p:spPr>
          <a:xfrm>
            <a:off x="6156360" y="234936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Изображение 042"/>
          <p:cNvPicPr/>
          <p:nvPr/>
        </p:nvPicPr>
        <p:blipFill>
          <a:blip r:embed="rId3"/>
          <a:stretch/>
        </p:blipFill>
        <p:spPr>
          <a:xfrm>
            <a:off x="3419640" y="3357720"/>
            <a:ext cx="2592360" cy="1944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Изображение 041"/>
          <p:cNvPicPr/>
          <p:nvPr/>
        </p:nvPicPr>
        <p:blipFill>
          <a:blip r:embed="rId4"/>
          <a:stretch/>
        </p:blipFill>
        <p:spPr>
          <a:xfrm>
            <a:off x="539640" y="4653000"/>
            <a:ext cx="2521080" cy="18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Изображение 040"/>
          <p:cNvPicPr/>
          <p:nvPr/>
        </p:nvPicPr>
        <p:blipFill>
          <a:blip r:embed="rId5"/>
          <a:stretch/>
        </p:blipFill>
        <p:spPr>
          <a:xfrm>
            <a:off x="6300720" y="4581360"/>
            <a:ext cx="259236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  <a:ea typeface="Arial"/>
              </a:rPr>
              <a:t>«Четвёртый лишни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  <a:ea typeface="Arial"/>
              </a:rPr>
              <a:t>Найти четвёртый лишний предм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1"/>
          <a:srcRect l="0" t="0" r="71" b="-27"/>
          <a:stretch/>
        </p:blipFill>
        <p:spPr>
          <a:xfrm>
            <a:off x="1403280" y="1328760"/>
            <a:ext cx="2376720" cy="5057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"/>
          <p:cNvPicPr/>
          <p:nvPr/>
        </p:nvPicPr>
        <p:blipFill>
          <a:blip r:embed="rId2"/>
          <a:srcRect l="0" t="-6264" r="51" b="-13"/>
          <a:stretch/>
        </p:blipFill>
        <p:spPr>
          <a:xfrm>
            <a:off x="3924360" y="981000"/>
            <a:ext cx="1985760" cy="54054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"/>
          <p:cNvPicPr/>
          <p:nvPr/>
        </p:nvPicPr>
        <p:blipFill>
          <a:blip r:embed="rId3"/>
          <a:srcRect l="0" t="0" r="-50" b="0"/>
          <a:stretch/>
        </p:blipFill>
        <p:spPr>
          <a:xfrm>
            <a:off x="6022800" y="1301760"/>
            <a:ext cx="271656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00000" y="475920"/>
            <a:ext cx="7786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  <a:ea typeface="Arial"/>
              </a:rPr>
              <a:t>Найти и исправить ошибку в паре пиктограм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" descr=""/>
          <p:cNvPicPr/>
          <p:nvPr/>
        </p:nvPicPr>
        <p:blipFill>
          <a:blip r:embed="rId1"/>
          <a:srcRect l="0" t="0" r="-45" b="0"/>
          <a:stretch/>
        </p:blipFill>
        <p:spPr>
          <a:xfrm>
            <a:off x="1332000" y="2997360"/>
            <a:ext cx="3024000" cy="34383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2"/>
          <a:srcRect l="0" t="0" r="0" b="-26"/>
          <a:stretch/>
        </p:blipFill>
        <p:spPr>
          <a:xfrm>
            <a:off x="1332000" y="1557360"/>
            <a:ext cx="3024000" cy="12952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"/>
          <p:cNvPicPr/>
          <p:nvPr/>
        </p:nvPicPr>
        <p:blipFill>
          <a:blip r:embed="rId3"/>
          <a:srcRect l="0" t="0" r="32" b="78"/>
          <a:stretch/>
        </p:blipFill>
        <p:spPr>
          <a:xfrm>
            <a:off x="4753080" y="1557360"/>
            <a:ext cx="315432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"/>
          <p:cNvPicPr/>
          <p:nvPr/>
        </p:nvPicPr>
        <p:blipFill>
          <a:blip r:embed="rId4"/>
          <a:srcRect l="0" t="0" r="21" b="0"/>
          <a:stretch/>
        </p:blipFill>
        <p:spPr>
          <a:xfrm>
            <a:off x="4753080" y="3029040"/>
            <a:ext cx="3154320" cy="330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"/>
          <p:cNvSpPr/>
          <p:nvPr/>
        </p:nvSpPr>
        <p:spPr>
          <a:xfrm>
            <a:off x="1908000" y="692280"/>
            <a:ext cx="68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овременной образовательной системы проблема умственного воспитания подрастающего поколения чрезвычайно важна. Необходимость компетентно ориентироваться в возрастающем объеме знаний предъявляет иные требования, чем были 30-40 лет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рвый план выдвигается задача формирования творческой личности, способной к активной умственной деятельности. Одним из важных показателей умственного развития ребенка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ысокое речевое разви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55640" y="476280"/>
            <a:ext cx="79423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Самостоятельная ориентировка в системе зна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из пиктограмм фразу,  произнесённую Воспитател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1"/>
          <a:srcRect l="0" t="0" r="24" b="-19"/>
          <a:stretch/>
        </p:blipFill>
        <p:spPr>
          <a:xfrm>
            <a:off x="2195640" y="2133720"/>
            <a:ext cx="4248000" cy="3585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Составить логические цеп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2" descr=""/>
          <p:cNvPicPr/>
          <p:nvPr/>
        </p:nvPicPr>
        <p:blipFill>
          <a:blip r:embed="rId1"/>
          <a:srcRect l="0" t="0" r="17" b="0"/>
          <a:stretch/>
        </p:blipFill>
        <p:spPr>
          <a:xfrm>
            <a:off x="2571840" y="1052640"/>
            <a:ext cx="4000320" cy="4779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58920" y="476280"/>
            <a:ext cx="74390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етод пиктограмм можно с успехом применять      в любой образовательной деятель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Формирование здорового образа жиз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физминут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Пересказ произвед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Заучивание стихотворений, загад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Дидактические иг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68360" y="260280"/>
            <a:ext cx="8229600" cy="73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иктограммы к стихотворениям, рассказам и сказкам, загадкам хорошо использовать для развития связной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сказ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«Плохой сторож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одной хозяйки мыши съели в погребе сал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гда она посадила в погреб кош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кошка съела и сало, и мясо, и молок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1"/>
          <a:srcRect l="0" t="0" r="16" b="0"/>
          <a:stretch/>
        </p:blipFill>
        <p:spPr>
          <a:xfrm>
            <a:off x="1403280" y="1413000"/>
            <a:ext cx="2089080" cy="3450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54936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гадывание и заучивание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гад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1"/>
          <a:srcRect l="0" t="0" r="10" b="0"/>
          <a:stretch/>
        </p:blipFill>
        <p:spPr>
          <a:xfrm>
            <a:off x="1332000" y="981000"/>
            <a:ext cx="3241440" cy="4535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"/>
          <p:cNvPicPr/>
          <p:nvPr/>
        </p:nvPicPr>
        <p:blipFill>
          <a:blip r:embed="rId2"/>
          <a:srcRect l="0" t="0" r="-69" b="52"/>
          <a:stretch/>
        </p:blipFill>
        <p:spPr>
          <a:xfrm>
            <a:off x="4932360" y="2924280"/>
            <a:ext cx="2965320" cy="2612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36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сказ сказки с помощью пиктограм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077080" cy="396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"/>
          <p:cNvPicPr/>
          <p:nvPr/>
        </p:nvPicPr>
        <p:blipFill>
          <a:blip r:embed="rId1"/>
          <a:srcRect l="0" t="0" r="47" b="-12"/>
          <a:stretch/>
        </p:blipFill>
        <p:spPr>
          <a:xfrm>
            <a:off x="4716360" y="2997360"/>
            <a:ext cx="3564000" cy="27352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"/>
          <p:cNvPicPr/>
          <p:nvPr/>
        </p:nvPicPr>
        <p:blipFill>
          <a:blip r:embed="rId2"/>
          <a:srcRect l="0" t="0" r="29" b="0"/>
          <a:stretch/>
        </p:blipFill>
        <p:spPr>
          <a:xfrm>
            <a:off x="1692360" y="836640"/>
            <a:ext cx="3456000" cy="3208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258920" y="476280"/>
            <a:ext cx="74390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иктограммы можно использовать на все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этапах работы с детьми по развитию реч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Использование метода пиктограмм развива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чь, высшие психические функции, чт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ложительно  сказывается на результативности все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58920" y="404280"/>
            <a:ext cx="743904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тишки все на свет приходят эт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ворить добро, надеяться, люби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меяться, плакать, но при всём при э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лжны мы научить их 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гово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2987640" y="2781360"/>
            <a:ext cx="3541680" cy="3540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5" descr=""/>
          <p:cNvPicPr/>
          <p:nvPr/>
        </p:nvPicPr>
        <p:blipFill>
          <a:blip r:embed="rId1"/>
          <a:stretch/>
        </p:blipFill>
        <p:spPr>
          <a:xfrm>
            <a:off x="2843280" y="981000"/>
            <a:ext cx="3881520" cy="331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050920" y="4365720"/>
          <a:ext cx="5892840" cy="761760"/>
        </p:xfrm>
        <a:graphic>
          <a:graphicData uri="http://schemas.openxmlformats.org/drawingml/2006/table">
            <a:tbl>
              <a:tblPr/>
              <a:tblGrid>
                <a:gridCol w="58928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пасибо за внимание!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476360" y="836640"/>
            <a:ext cx="66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Arial"/>
              </a:rPr>
              <a:t>«Учите ребенка каким-нибудь пяти неизвестным ему словам - он будет долго и напрасно мучиться, но свяжите двадцать таких слов с картинками, и он их усвоит на лету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 Д.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692360" y="476280"/>
            <a:ext cx="698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наиболее перспективных методов реализации речевого воспитания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скольку мышление дошкольника отличается предметной образностью и наглядной конкрет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1692360" y="2550960"/>
            <a:ext cx="71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оказывает практика, эффективным способом, позволяющим удовлетворять потребность неговорящего ребенка в общении является метод наглядного моделирования, в состав которого входит 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етод пикт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856560" cy="424836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1" descr=""/>
          <p:cNvPicPr/>
          <p:nvPr/>
        </p:nvPicPr>
        <p:blipFill>
          <a:blip r:embed="rId2"/>
          <a:stretch/>
        </p:blipFill>
        <p:spPr>
          <a:xfrm>
            <a:off x="1689120" y="3273480"/>
            <a:ext cx="46836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2" descr=""/>
          <p:cNvPicPr/>
          <p:nvPr/>
        </p:nvPicPr>
        <p:blipFill>
          <a:blip r:embed="rId3"/>
          <a:stretch/>
        </p:blipFill>
        <p:spPr>
          <a:xfrm>
            <a:off x="4059360" y="3279600"/>
            <a:ext cx="476280" cy="191484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3" descr=""/>
          <p:cNvPicPr/>
          <p:nvPr/>
        </p:nvPicPr>
        <p:blipFill>
          <a:blip r:embed="rId4"/>
          <a:stretch/>
        </p:blipFill>
        <p:spPr>
          <a:xfrm>
            <a:off x="6437160" y="3425760"/>
            <a:ext cx="47628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00000" y="404280"/>
            <a:ext cx="79200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В современной жизни нас окружает множество пиктограмм. Понимание пиктограмм поможет детям адаптироваться в социум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1" descr="E:\0010-010-Dorozhnye-znaki.jpg"/>
          <p:cNvPicPr/>
          <p:nvPr/>
        </p:nvPicPr>
        <p:blipFill>
          <a:blip r:embed="rId1"/>
          <a:stretch/>
        </p:blipFill>
        <p:spPr>
          <a:xfrm>
            <a:off x="2556000" y="3284640"/>
            <a:ext cx="4032000" cy="3267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4" descr="http://files.adme.ru/files/news/part_43/435555/pict-evolutiya-14.jpg"/>
          <p:cNvPicPr/>
          <p:nvPr/>
        </p:nvPicPr>
        <p:blipFill>
          <a:blip r:embed="rId2"/>
          <a:stretch/>
        </p:blipFill>
        <p:spPr>
          <a:xfrm>
            <a:off x="5148360" y="1484280"/>
            <a:ext cx="3481200" cy="21812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"/>
          <p:cNvPicPr/>
          <p:nvPr/>
        </p:nvPicPr>
        <p:blipFill>
          <a:blip r:embed="rId3"/>
          <a:stretch/>
        </p:blipFill>
        <p:spPr>
          <a:xfrm>
            <a:off x="1187280" y="1341360"/>
            <a:ext cx="2664000" cy="2210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331640" y="476280"/>
            <a:ext cx="73659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огда же появились первые пиктограмм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олго до того, как люди придумали алфавит, они делали записи, на которых изображали разные знаки и рису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иктографический рассказ эскимоса об удачной охо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547640" y="3789360"/>
            <a:ext cx="684072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76000" y="259920"/>
            <a:ext cx="7667640" cy="622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Что такое пиктограмм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Arial"/>
              </a:rPr>
              <a:t>Пикт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знак, отображающий  важнейшие узнаваемые черты объектов, предметов, явлений, на которые он указывает, чаще всего в схематическом ви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Arial"/>
              </a:rPr>
              <a:t>Пикт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простые рисунки и символы, которые понятны и взрослым , и детям, и людям, говорящим на разных язы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9:13:42Z</dcterms:created>
  <dc:creator>Оператор</dc:creator>
  <dc:description/>
  <dc:language>en-US</dc:language>
  <cp:lastModifiedBy>Пк</cp:lastModifiedBy>
  <dcterms:modified xsi:type="dcterms:W3CDTF">2021-11-19T09:09:03Z</dcterms:modified>
  <cp:revision>7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120000000000010291210207f7000400038000</vt:lpwstr>
  </property>
</Properties>
</file>